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9AE-8BAD-481A-A2C3-C12CD9D4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406-4021-421F-A012-DB1DD22B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368-A9FD-4502-B96B-2475ECB5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E47-8A74-4F97-BB2C-FC0D3991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311-BB41-47B3-98C5-A794B647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329-779F-4562-A2EA-803BB065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096-975F-4D1E-BD5A-364F140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FCD-B363-43DD-843C-4434993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88E-9064-4978-9E98-FEEB8FBE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12A-2977-4E52-94F4-F1C232A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93D-10C0-4E6B-A32D-B70D1FF2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B6E-23A2-4537-8D8A-AF34A2C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1F1C-D292-4957-B567-155A7A667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Блок-схема: альтернативный процесс 2" descr=""/>
          <p:cNvPicPr/>
          <p:nvPr/>
        </p:nvPicPr>
        <p:blipFill>
          <a:blip r:embed="rId1"/>
          <a:stretch/>
        </p:blipFill>
        <p:spPr>
          <a:xfrm>
            <a:off x="268200" y="328680"/>
            <a:ext cx="8607600" cy="555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Блок-схема: альтернативный процесс 13"/>
          <p:cNvGrpSpPr/>
          <p:nvPr/>
        </p:nvGrpSpPr>
        <p:grpSpPr>
          <a:xfrm>
            <a:off x="30240" y="219240"/>
            <a:ext cx="9083520" cy="3103560"/>
            <a:chOff x="30240" y="219240"/>
            <a:chExt cx="9083520" cy="3103560"/>
          </a:xfrm>
        </p:grpSpPr>
        <p:pic>
          <p:nvPicPr>
            <p:cNvPr id="44" name="Блок-схема: альтернативный процесс 13" descr=""/>
            <p:cNvPicPr/>
            <p:nvPr/>
          </p:nvPicPr>
          <p:blipFill>
            <a:blip r:embed="rId1"/>
            <a:stretch/>
          </p:blipFill>
          <p:spPr>
            <a:xfrm>
              <a:off x="30240" y="219240"/>
              <a:ext cx="90835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12920" y="603360"/>
              <a:ext cx="8318160" cy="23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10253f"/>
                  </a:solidFill>
                  <a:latin typeface="Times New Roman"/>
                  <a:ea typeface="Times New Roman"/>
                </a:rPr>
                <a:t>Ұлы Жібек жолының үш кезенге бөлінуін білед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Блок-схема: альтернативный процесс 14"/>
          <p:cNvGrpSpPr/>
          <p:nvPr/>
        </p:nvGrpSpPr>
        <p:grpSpPr>
          <a:xfrm>
            <a:off x="158760" y="3389400"/>
            <a:ext cx="8826480" cy="3078000"/>
            <a:chOff x="158760" y="3389400"/>
            <a:chExt cx="8826480" cy="3078000"/>
          </a:xfrm>
        </p:grpSpPr>
        <p:pic>
          <p:nvPicPr>
            <p:cNvPr id="47" name="Блок-схема: альтернативный процесс 14" descr=""/>
            <p:cNvPicPr/>
            <p:nvPr/>
          </p:nvPicPr>
          <p:blipFill>
            <a:blip r:embed="rId2"/>
            <a:stretch/>
          </p:blipFill>
          <p:spPr>
            <a:xfrm>
              <a:off x="158760" y="3389400"/>
              <a:ext cx="882648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36400" y="3770280"/>
              <a:ext cx="8071200" cy="23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ғалау критерийі</a:t>
              </a:r>
              <a:r>
                <a:rPr b="0" lang="kk-K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kk-KZ" sz="2800" spc="-1" strike="noStrike">
                  <a:solidFill>
                    <a:srgbClr val="10253f"/>
                  </a:solidFill>
                  <a:latin typeface="Times New Roman"/>
                  <a:ea typeface="Times New Roman"/>
                </a:rPr>
                <a:t>Ұлы Жібек жолының үш кезенге бөлінуін біледі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rcRect l="25124" t="19920" r="22835" b="237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rcRect l="25305" t="17232" r="23553" b="25659"/>
          <a:stretch/>
        </p:blipFill>
        <p:spPr>
          <a:xfrm>
            <a:off x="0" y="115920"/>
            <a:ext cx="910908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349360"/>
          <a:ext cx="8229600" cy="1808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809000">
                <a:tc>
                  <a:txBody>
                    <a:bodyPr lIns="114480" rIns="114480" tIns="0" bIns="0" anchor="t">
                      <a:noAutofit/>
                    </a:bodyPr>
                    <a:p>
                      <a:pPr marL="15840" indent="212760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.Тақырыптың мазмұнын ашылды. 1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840" indent="212760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.Берілген ақпаратты жеткілікті етіп түсіндірді. 1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840" indent="212760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3.Уақытты үнемді пайдаланды. 1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1f497d"/>
                </a:solidFill>
                <a:latin typeface="Calibri"/>
              </a:rPr>
              <a:t>Бағалау критерийле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трелка вправо с вырезом 1"/>
          <p:cNvSpPr/>
          <p:nvPr/>
        </p:nvSpPr>
        <p:spPr>
          <a:xfrm>
            <a:off x="928800" y="2786040"/>
            <a:ext cx="7786440" cy="484200"/>
          </a:xfrm>
          <a:custGeom>
            <a:avLst/>
            <a:gdLst>
              <a:gd name="textAreaLeft" fmla="*/ 120960 w 7786440"/>
              <a:gd name="textAreaRight" fmla="*/ 7665480 w 77864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928" y="5400"/>
                </a:lnTo>
                <a:lnTo>
                  <a:pt x="20928" y="0"/>
                </a:lnTo>
                <a:lnTo>
                  <a:pt x="21600" y="10800"/>
                </a:lnTo>
                <a:lnTo>
                  <a:pt x="20928" y="21600"/>
                </a:lnTo>
                <a:lnTo>
                  <a:pt x="20928" y="16200"/>
                </a:lnTo>
                <a:lnTo>
                  <a:pt x="0" y="16200"/>
                </a:lnTo>
                <a:lnTo>
                  <a:pt x="33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 flipV="1" rot="10800000">
            <a:off x="957240" y="1707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ілмеймі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643120" y="34466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ілемі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Кольцо 5"/>
          <p:cNvSpPr/>
          <p:nvPr/>
        </p:nvSpPr>
        <p:spPr>
          <a:xfrm>
            <a:off x="1285920" y="2500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cubicBezTo>
                  <a:pt x="709705" y="0"/>
                  <a:pt x="914400" y="204695"/>
                  <a:pt x="914400" y="457200"/>
                </a:cubicBez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330948" y="685800"/>
                  <a:pt x="457200" y="685800"/>
                </a:cubicBezTo>
                <a:cubicBezTo>
                  <a:pt x="583452" y="685800"/>
                  <a:pt x="685800" y="583452"/>
                  <a:pt x="685800" y="457200"/>
                </a:cubicBezTo>
                <a:cubicBezTo>
                  <a:pt x="685800" y="330948"/>
                  <a:pt x="583452" y="228600"/>
                  <a:pt x="457200" y="228600"/>
                </a:cubicBezTo>
                <a:cubicBezTo>
                  <a:pt x="330948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071960" y="18972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үсінемі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2286000" y="2928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5607000" y="3525840"/>
            <a:ext cx="158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үсіні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йдал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а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Кольцо 10"/>
          <p:cNvSpPr/>
          <p:nvPr/>
        </p:nvSpPr>
        <p:spPr>
          <a:xfrm>
            <a:off x="2643120" y="2428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cubicBezTo>
                  <a:pt x="709705" y="0"/>
                  <a:pt x="914400" y="204695"/>
                  <a:pt x="914400" y="457200"/>
                </a:cubicBez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330948" y="685800"/>
                  <a:pt x="457200" y="685800"/>
                </a:cubicBezTo>
                <a:cubicBezTo>
                  <a:pt x="583452" y="685800"/>
                  <a:pt x="685800" y="583452"/>
                  <a:pt x="685800" y="457200"/>
                </a:cubicBezTo>
                <a:cubicBezTo>
                  <a:pt x="685800" y="330948"/>
                  <a:pt x="583452" y="228600"/>
                  <a:pt x="457200" y="228600"/>
                </a:cubicBezTo>
                <a:cubicBezTo>
                  <a:pt x="330948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Кольцо 11"/>
          <p:cNvSpPr/>
          <p:nvPr/>
        </p:nvSpPr>
        <p:spPr>
          <a:xfrm>
            <a:off x="4214880" y="2428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cubicBezTo>
                  <a:pt x="709705" y="0"/>
                  <a:pt x="914400" y="204695"/>
                  <a:pt x="914400" y="457200"/>
                </a:cubicBez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330948" y="685800"/>
                  <a:pt x="457200" y="685800"/>
                </a:cubicBezTo>
                <a:cubicBezTo>
                  <a:pt x="583452" y="685800"/>
                  <a:pt x="685800" y="583452"/>
                  <a:pt x="685800" y="457200"/>
                </a:cubicBezTo>
                <a:cubicBezTo>
                  <a:pt x="685800" y="330948"/>
                  <a:pt x="583452" y="228600"/>
                  <a:pt x="457200" y="228600"/>
                </a:cubicBezTo>
                <a:cubicBezTo>
                  <a:pt x="330948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Кольцо 12"/>
          <p:cNvSpPr/>
          <p:nvPr/>
        </p:nvSpPr>
        <p:spPr>
          <a:xfrm>
            <a:off x="5643720" y="2428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cubicBezTo>
                  <a:pt x="709705" y="0"/>
                  <a:pt x="914400" y="204695"/>
                  <a:pt x="914400" y="457200"/>
                </a:cubicBez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330948" y="685800"/>
                  <a:pt x="457200" y="685800"/>
                </a:cubicBezTo>
                <a:cubicBezTo>
                  <a:pt x="583452" y="685800"/>
                  <a:pt x="685800" y="583452"/>
                  <a:pt x="685800" y="457200"/>
                </a:cubicBezTo>
                <a:cubicBezTo>
                  <a:pt x="685800" y="330948"/>
                  <a:pt x="583452" y="228600"/>
                  <a:pt x="457200" y="228600"/>
                </a:cubicBezTo>
                <a:cubicBezTo>
                  <a:pt x="330948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Кольцо 13"/>
          <p:cNvSpPr/>
          <p:nvPr/>
        </p:nvSpPr>
        <p:spPr>
          <a:xfrm>
            <a:off x="7286760" y="2428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cubicBezTo>
                  <a:pt x="709705" y="0"/>
                  <a:pt x="914400" y="204695"/>
                  <a:pt x="914400" y="457200"/>
                </a:cubicBez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330948" y="685800"/>
                  <a:pt x="457200" y="685800"/>
                </a:cubicBezTo>
                <a:cubicBezTo>
                  <a:pt x="583452" y="685800"/>
                  <a:pt x="685800" y="583452"/>
                  <a:pt x="685800" y="457200"/>
                </a:cubicBezTo>
                <a:cubicBezTo>
                  <a:pt x="685800" y="330948"/>
                  <a:pt x="583452" y="228600"/>
                  <a:pt x="457200" y="228600"/>
                </a:cubicBezTo>
                <a:cubicBezTo>
                  <a:pt x="330948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7020000" y="120168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сқаға түсіндіре ала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928800" y="53496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әттілік ж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4:30:00Z</dcterms:created>
  <dc:creator>XTreme</dc:creator>
  <dc:description/>
  <dc:language>en-US</dc:language>
  <cp:lastModifiedBy>Белый ветер</cp:lastModifiedBy>
  <dcterms:modified xsi:type="dcterms:W3CDTF">2017-12-11T18:09:35Z</dcterms:modified>
  <cp:revision>627</cp:revision>
  <dc:subject/>
  <dc:title>Августовское совещание педагогических работников     Август   2010</dc:title>
</cp:coreProperties>
</file>